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wmf" ContentType="image/x-wmf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1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9E6A6-03BD-4106-8095-821FE3815B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06692-1E7F-41BB-B404-24C7E5C76FF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ПК «Технологии формирования и оценивания функциональной грамотности обучающихся» (Просвещ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 слушателей сформирован на основе поданных ОУ заявок 13.07.2021, направлен в ДОиМП ХМАО – Югры (251 человек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9EA59-4F80-4904-B8B5-D215E45904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Верхний колонтитул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Дата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BE36C-E437-410F-A5AF-3BBC4A835E11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нки заданий по функциональной грамотности размещены на сайте Института стратегии развития образования Российской академии образования, на сайте Издательства «Просвещени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8EB50-AD71-446A-8EBB-B0BCF8528AC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64C26-BEF7-49A3-ADAC-1F0144DA8E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A6559-9DC2-496B-AFFD-2BF4A96CA66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5B89-A698-465F-9585-F8CAFCC3E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7BF3-7E04-4A5C-9A29-61ED1F948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C690-B311-4D7B-8233-4429ECDC7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3F16-4FA4-4EA5-AA1A-38761ABBD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ABE52-952E-4E34-B812-A8A428C1C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65974-D3F2-4193-9395-B14BD80B6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0DBD7-1400-49EE-AE01-D1F7BEE88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21DCB-06C2-489F-89D4-4BA83FDC1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7970E-81B6-4502-961B-3C05CA9B2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D77EA-BDB3-4B54-AAD4-ADFFF47F7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185CE-4647-4B73-9050-419C4F523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9280-FEA2-46B5-B529-FE1F993CA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F2D9F-3D97-4E1E-AF15-52238E2D4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698FA-A395-42F7-97BF-0B43B66E2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4D8FC-17C3-4039-BA99-4B4F88E8C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182C4-99B8-4CB6-82A0-4710E6C0B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F0673-2DAF-400C-BC4E-46AE2759D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CE840D-3EB2-44A8-B329-D164120D68E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C8D6D9-ABDC-44DB-A5E3-077A46F7542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42B74B-CAC9-4CBF-9BE4-597737A6830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F24908-3723-47A2-A165-42828DADC07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62F98B-ED64-4A43-B0A1-9C952BB7E4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CB08-2A28-4C7B-97BE-5A7F65691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73DC3B-F945-45FE-8BBC-1103997DDC6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88151E-D671-47F3-902A-7F4A85FC773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F2D83C-8163-4925-A18C-F1E308CFD87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FA616C-2DDF-4406-BE12-F2DD07C6713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2195BF-452A-4B6C-99AA-2F4D699999C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C47B59-1A68-481E-B470-F0CAC3EB343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B873D1-1855-4A50-9660-8FCD872FFD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A79F-47D4-4512-91EB-92E71D416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9974-C5A5-4383-AC36-A765FFD10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E0BC-CB43-4674-9FF3-3D0EE4219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2A7B-590C-4FB6-8F55-51449D3F9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A9B3-DB99-4431-A925-AE9A7EDB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67C9-CBD1-400F-B490-B87DA35B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A01E3-B0FD-4722-96E9-E978F0AC632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D153A-B5E7-4B69-8D88-94BD6ABE6A6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7"/>
          </p:nvPr>
        </p:nvSpPr>
        <p:spPr>
          <a:xfrm>
            <a:off x="8472240" y="6217920"/>
            <a:ext cx="549000" cy="52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49116-0B2B-482B-8BAF-5F9888962AC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s://media.prosv.ru/fg" TargetMode="External"/><Relationship Id="rId3" Type="http://schemas.openxmlformats.org/officeDocument/2006/relationships/hyperlink" Target="http://skiv.instrao.ru/bank-zadaniy/" TargetMode="External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Рисунок 6" descr=""/>
          <p:cNvPicPr/>
          <p:nvPr/>
        </p:nvPicPr>
        <p:blipFill>
          <a:blip r:embed="rId1"/>
          <a:stretch/>
        </p:blipFill>
        <p:spPr>
          <a:xfrm>
            <a:off x="301680" y="301680"/>
            <a:ext cx="668160" cy="88092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31640" y="2133720"/>
            <a:ext cx="7056360" cy="29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f4e79"/>
                </a:solidFill>
                <a:latin typeface="Book Antiqua"/>
                <a:ea typeface="Times New Roman"/>
              </a:rPr>
              <a:t>Об организации работы общеобразовательных учреждений по внедрению в учебный процесс банка заданий для оценки функциональной грамотности, разработанных </a:t>
            </a:r>
            <a:br>
              <a:rPr sz="3200"/>
            </a:br>
            <a:r>
              <a:rPr b="1" i="1" lang="ru-RU" sz="3200" spc="-1" strike="noStrike">
                <a:solidFill>
                  <a:srgbClr val="1f4e79"/>
                </a:solidFill>
                <a:latin typeface="Book Antiqua"/>
                <a:ea typeface="Times New Roman"/>
              </a:rPr>
              <a:t>ФГБНУ «Институт стратегии развития образования Российской академии образования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32000" y="5732640"/>
            <a:ext cx="7812000" cy="11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6002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зачок Светлана Александровна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002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ститель директора 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У «Информационно-методический центр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Рисунок 3" descr=""/>
          <p:cNvPicPr/>
          <p:nvPr/>
        </p:nvPicPr>
        <p:blipFill>
          <a:blip r:embed="rId2"/>
          <a:stretch/>
        </p:blipFill>
        <p:spPr>
          <a:xfrm>
            <a:off x="244440" y="1554120"/>
            <a:ext cx="779400" cy="16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3398760" y="1628640"/>
            <a:ext cx="5745240" cy="6201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"/>
          <p:cNvPicPr/>
          <p:nvPr/>
        </p:nvPicPr>
        <p:blipFill>
          <a:blip r:embed="rId2"/>
          <a:srcRect l="34293" t="26324" r="18380" b="20340"/>
          <a:stretch/>
        </p:blipFill>
        <p:spPr>
          <a:xfrm>
            <a:off x="15840" y="887400"/>
            <a:ext cx="4919760" cy="3117960"/>
          </a:xfrm>
          <a:prstGeom prst="rect">
            <a:avLst/>
          </a:prstGeom>
          <a:ln w="0">
            <a:noFill/>
          </a:ln>
        </p:spPr>
      </p:pic>
      <p:sp>
        <p:nvSpPr>
          <p:cNvPr id="134" name="TextBox 5"/>
          <p:cNvSpPr/>
          <p:nvPr/>
        </p:nvSpPr>
        <p:spPr>
          <a:xfrm>
            <a:off x="1722600" y="233280"/>
            <a:ext cx="664344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e5370"/>
                </a:solidFill>
                <a:latin typeface="Book Antiqua"/>
                <a:ea typeface="Times New Roman"/>
              </a:rPr>
              <a:t>Формирование функциональной грамот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908856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4"/>
          <p:cNvSpPr/>
          <p:nvPr/>
        </p:nvSpPr>
        <p:spPr>
          <a:xfrm>
            <a:off x="324000" y="241200"/>
            <a:ext cx="8524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5370"/>
                </a:solidFill>
                <a:latin typeface="Book Antiqua"/>
                <a:ea typeface="Times New Roman"/>
              </a:rPr>
              <a:t>Информация о количестве заявок на КПК </a:t>
            </a:r>
            <a:br>
              <a:rPr sz="2000"/>
            </a:br>
            <a:r>
              <a:rPr b="1" lang="ru-RU" sz="2000" spc="-1" strike="noStrike">
                <a:solidFill>
                  <a:srgbClr val="3e5370"/>
                </a:solidFill>
                <a:latin typeface="Book Antiqua"/>
                <a:ea typeface="Times New Roman"/>
              </a:rPr>
              <a:t>по функциональной грамотности ЦНППМ (28.11.2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79280" y="949320"/>
          <a:ext cx="8856720" cy="5527800"/>
        </p:xfrm>
        <a:graphic>
          <a:graphicData uri="http://schemas.openxmlformats.org/drawingml/2006/table">
            <a:tbl>
              <a:tblPr/>
              <a:tblGrid>
                <a:gridCol w="1613160"/>
                <a:gridCol w="626760"/>
                <a:gridCol w="768600"/>
                <a:gridCol w="5848200"/>
              </a:tblGrid>
              <a:tr h="782640"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едмет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ериод обуче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л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акт на 28.11.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У, направившие заяв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76032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усский язык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5.11-02.12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БОУ гимназия № 2, СЕНЛ, лицей № 3, лицей им. г-м Хисматулина В.И., СОШ № 1, 3, 4 им. Л.И. Золотухиной, 6, 7, «Сургутская технологическая школа», №18 им. В.Я. Алексеева, 19, 22 имени Г.Ф. Пономарева (2), 27, 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68580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Литерату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4.11-01.12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БОУ СЕНЛ, лицей № 3, лицей им. г-м Хисматулина В.И., СОШ № 4 им. Л.И.Золотухиной, 6, 12 (2), «Сургутская технологическая школа», 22 им. Г.Ф.Пономарева, 25, 27, 32, 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6520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атема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4-11.12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БОУ гимназия №2, СОШ № 1 (4), 3, 7 (2), 10 с УИОП, 15, 20 (2), 22 им. Г.Ф.Пономарева (2), 24 (2), 25, 27 (2), 29 (2), 44, СШ №9 (2), 12 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52236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из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1-08.21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БОУ СЕНЛ, лицей им. г-м Хисматулина В.И., СОШ № 1, 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2236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иолог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2-29.11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БОУ СЕНЛ, лицей № 3, СОШ № 6, 7, 10 с УИОП, 15, 22 им. Г.Ф.Пономарева, 24, 25, 27, 32, СШ № 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52236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Хим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3-30.11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БОУ гимназия «Лаборатория Салахова» (2), СЕНЛ, СОШ № 6, 12, 15, 18 им. В.Я. Алексеева, 22 им. Г.Ф. Пономарева, 24, 26, 27, 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780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бществозн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2-11.12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БОУ гимназия № 2, СОШ № 1, 3, (4), 18 им. В.Я. Алексеева, 22 им. Г.Ф.Пономарева (3), 25, 26(5), 27, 32, 44, СШ № 9 (2), 12, ОСОШ №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58896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стор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3-11.12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БОУ гимназия № 2, лицей им. г-м Хисматулина В.И., МБОУ СОШ № 1, 7, 20, 22 им. Г.Ф. Пономарева (5), 25 (2), 27, 29 (3), 31 (3), 44, 45, СШ № 9 (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Объект 3" descr=""/>
          <p:cNvPicPr/>
          <p:nvPr/>
        </p:nvPicPr>
        <p:blipFill>
          <a:blip r:embed="rId1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sp>
        <p:nvSpPr>
          <p:cNvPr id="139" name="TextBox 35"/>
          <p:cNvSpPr/>
          <p:nvPr/>
        </p:nvSpPr>
        <p:spPr>
          <a:xfrm>
            <a:off x="250920" y="220680"/>
            <a:ext cx="889164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2d2b8d"/>
                </a:solidFill>
                <a:latin typeface="Arial"/>
                <a:ea typeface="Open Sans Condensed"/>
              </a:rPr>
              <a:t>Комплексное предложение по формированию функциональной грамотности от Группы компаний «Просвещение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Номер слайда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6A28D-C81E-4A15-BB63-76D90B894FC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Номер слайда 8"/>
          <p:cNvSpPr/>
          <p:nvPr/>
        </p:nvSpPr>
        <p:spPr>
          <a:xfrm>
            <a:off x="6572160" y="650880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2"/>
          <a:stretch/>
        </p:blipFill>
        <p:spPr>
          <a:xfrm>
            <a:off x="1387440" y="1566720"/>
            <a:ext cx="3164040" cy="41976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"/>
          <p:cNvPicPr/>
          <p:nvPr/>
        </p:nvPicPr>
        <p:blipFill>
          <a:blip r:embed="rId3"/>
          <a:stretch/>
        </p:blipFill>
        <p:spPr>
          <a:xfrm>
            <a:off x="2376360" y="2870280"/>
            <a:ext cx="1158840" cy="15462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"/>
          <p:cNvPicPr/>
          <p:nvPr/>
        </p:nvPicPr>
        <p:blipFill>
          <a:blip r:embed="rId4"/>
          <a:stretch/>
        </p:blipFill>
        <p:spPr>
          <a:xfrm>
            <a:off x="1676520" y="3554280"/>
            <a:ext cx="426960" cy="5605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"/>
          <p:cNvPicPr/>
          <p:nvPr/>
        </p:nvPicPr>
        <p:blipFill>
          <a:blip r:embed="rId5"/>
          <a:stretch/>
        </p:blipFill>
        <p:spPr>
          <a:xfrm>
            <a:off x="3554280" y="2225520"/>
            <a:ext cx="414360" cy="5540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"/>
          <p:cNvPicPr/>
          <p:nvPr/>
        </p:nvPicPr>
        <p:blipFill>
          <a:blip r:embed="rId6"/>
          <a:stretch/>
        </p:blipFill>
        <p:spPr>
          <a:xfrm>
            <a:off x="2109960" y="2163600"/>
            <a:ext cx="401400" cy="5367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"/>
          <p:cNvPicPr/>
          <p:nvPr/>
        </p:nvPicPr>
        <p:blipFill>
          <a:blip r:embed="rId7"/>
          <a:stretch/>
        </p:blipFill>
        <p:spPr>
          <a:xfrm>
            <a:off x="3743280" y="4102200"/>
            <a:ext cx="426960" cy="4633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"/>
          <p:cNvPicPr/>
          <p:nvPr/>
        </p:nvPicPr>
        <p:blipFill>
          <a:blip r:embed="rId8"/>
          <a:stretch/>
        </p:blipFill>
        <p:spPr>
          <a:xfrm>
            <a:off x="2584440" y="4809960"/>
            <a:ext cx="390600" cy="505080"/>
          </a:xfrm>
          <a:prstGeom prst="rect">
            <a:avLst/>
          </a:prstGeom>
          <a:ln w="0">
            <a:noFill/>
          </a:ln>
        </p:spPr>
      </p:pic>
      <p:sp>
        <p:nvSpPr>
          <p:cNvPr id="149" name="TextBox 9"/>
          <p:cNvSpPr/>
          <p:nvPr/>
        </p:nvSpPr>
        <p:spPr>
          <a:xfrm>
            <a:off x="479520" y="1703520"/>
            <a:ext cx="12920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Open Sans Light"/>
              </a:rPr>
              <a:t>Мониторинг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pen Sans Light"/>
              </a:rPr>
              <a:t>и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Open Sans Light"/>
              </a:rPr>
              <a:t>оцен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0"/>
          <p:cNvSpPr/>
          <p:nvPr/>
        </p:nvSpPr>
        <p:spPr>
          <a:xfrm>
            <a:off x="4297320" y="1735200"/>
            <a:ext cx="11127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Open Sans Light"/>
              </a:rPr>
              <a:t>Обучение учите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4376880" y="4592520"/>
            <a:ext cx="11808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Open Sans Light"/>
              </a:rPr>
              <a:t>Цифровые реше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pen Sans Light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3"/>
          <p:cNvSpPr/>
          <p:nvPr/>
        </p:nvSpPr>
        <p:spPr>
          <a:xfrm>
            <a:off x="1074600" y="5743440"/>
            <a:ext cx="1976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Open Sans Light"/>
              </a:rPr>
              <a:t>О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pen Sans Light"/>
              </a:rPr>
              <a:t>бразовательно-исследовательское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Open Sans Light"/>
              </a:rPr>
              <a:t>оборудова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pen Sans Ligh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4"/>
          <p:cNvSpPr/>
          <p:nvPr/>
        </p:nvSpPr>
        <p:spPr>
          <a:xfrm>
            <a:off x="95400" y="3700440"/>
            <a:ext cx="12618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Open Sans Light"/>
              </a:rPr>
              <a:t>Учебно-методическое обеспечение</a:t>
            </a:r>
            <a:r>
              <a:rPr b="0" lang="en-US" sz="1400" spc="-1" strike="noStrike">
                <a:solidFill>
                  <a:srgbClr val="000000"/>
                </a:solidFill>
                <a:latin typeface="Open Sans Light"/>
                <a:ea typeface="Open Sans Light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Соединительная линия уступом 73"/>
          <p:cNvCxnSpPr/>
          <p:nvPr/>
        </p:nvCxnSpPr>
        <p:spPr>
          <a:xfrm flipV="1">
            <a:off x="1973160" y="5760360"/>
            <a:ext cx="1078200" cy="523080"/>
          </a:xfrm>
          <a:prstGeom prst="bentConnector2">
            <a:avLst/>
          </a:prstGeom>
          <a:ln w="28440">
            <a:solidFill>
              <a:srgbClr val="ff3399"/>
            </a:solidFill>
            <a:miter/>
          </a:ln>
        </p:spPr>
      </p:cxnSp>
      <p:cxnSp>
        <p:nvCxnSpPr>
          <p:cNvPr id="155" name="Соединительная линия уступом 74"/>
          <p:cNvCxnSpPr/>
          <p:nvPr/>
        </p:nvCxnSpPr>
        <p:spPr>
          <a:xfrm>
            <a:off x="350640" y="4152960"/>
            <a:ext cx="1176840" cy="311760"/>
          </a:xfrm>
          <a:prstGeom prst="bentConnector3">
            <a:avLst>
              <a:gd name="adj1" fmla="val 83414"/>
            </a:avLst>
          </a:prstGeom>
          <a:ln w="28440">
            <a:solidFill>
              <a:srgbClr val="00ccff"/>
            </a:solidFill>
            <a:miter/>
          </a:ln>
        </p:spPr>
      </p:cxnSp>
      <p:cxnSp>
        <p:nvCxnSpPr>
          <p:cNvPr id="156" name="Соединительная линия уступом 75"/>
          <p:cNvCxnSpPr/>
          <p:nvPr/>
        </p:nvCxnSpPr>
        <p:spPr>
          <a:xfrm>
            <a:off x="528480" y="1949040"/>
            <a:ext cx="1308960" cy="253080"/>
          </a:xfrm>
          <a:prstGeom prst="bentConnector3">
            <a:avLst>
              <a:gd name="adj1" fmla="val 83081"/>
            </a:avLst>
          </a:prstGeom>
          <a:ln w="28440">
            <a:solidFill>
              <a:srgbClr val="7030a0"/>
            </a:solidFill>
            <a:miter/>
          </a:ln>
        </p:spPr>
      </p:cxnSp>
      <p:cxnSp>
        <p:nvCxnSpPr>
          <p:cNvPr id="157" name="Соединительная линия уступом 76"/>
          <p:cNvCxnSpPr/>
          <p:nvPr/>
        </p:nvCxnSpPr>
        <p:spPr>
          <a:xfrm flipV="1" rot="10800000">
            <a:off x="4093560" y="4840920"/>
            <a:ext cx="1203840" cy="208440"/>
          </a:xfrm>
          <a:prstGeom prst="bentConnector3">
            <a:avLst>
              <a:gd name="adj1" fmla="val 66048"/>
            </a:avLst>
          </a:prstGeom>
          <a:ln w="28440">
            <a:solidFill>
              <a:srgbClr val="92d050"/>
            </a:solidFill>
            <a:miter/>
          </a:ln>
        </p:spPr>
      </p:cxnSp>
      <p:cxnSp>
        <p:nvCxnSpPr>
          <p:cNvPr id="158" name="Соединительная линия уступом 77"/>
          <p:cNvCxnSpPr/>
          <p:nvPr/>
        </p:nvCxnSpPr>
        <p:spPr>
          <a:xfrm flipV="1" rot="10800000">
            <a:off x="4034880" y="1982520"/>
            <a:ext cx="1375200" cy="219600"/>
          </a:xfrm>
          <a:prstGeom prst="bentConnector3">
            <a:avLst>
              <a:gd name="adj1" fmla="val 68866"/>
            </a:avLst>
          </a:prstGeom>
          <a:ln w="28440">
            <a:solidFill>
              <a:srgbClr val="ffc000"/>
            </a:solidFill>
            <a:miter/>
          </a:ln>
        </p:spPr>
      </p:cxnSp>
      <p:sp>
        <p:nvSpPr>
          <p:cNvPr id="159" name="Прямоугольник 122"/>
          <p:cNvSpPr/>
          <p:nvPr/>
        </p:nvSpPr>
        <p:spPr>
          <a:xfrm>
            <a:off x="5557680" y="779400"/>
            <a:ext cx="3584880" cy="6078600"/>
          </a:xfrm>
          <a:prstGeom prst="rect">
            <a:avLst/>
          </a:prstGeom>
          <a:solidFill>
            <a:srgbClr val="eff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"/>
          <p:cNvSpPr/>
          <p:nvPr/>
        </p:nvSpPr>
        <p:spPr>
          <a:xfrm>
            <a:off x="5557680" y="779400"/>
            <a:ext cx="358488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262626"/>
                </a:solidFill>
                <a:latin typeface="Arial"/>
                <a:ea typeface="Open sans"/>
              </a:rPr>
              <a:t>Пакет </a:t>
            </a:r>
            <a:r>
              <a:rPr b="1" lang="ru-RU" sz="1300" spc="-1" strike="noStrike">
                <a:solidFill>
                  <a:srgbClr val="262626"/>
                </a:solidFill>
                <a:latin typeface="Arial"/>
                <a:ea typeface="Open sans"/>
              </a:rPr>
              <a:t>практико-ориентированных </a:t>
            </a:r>
            <a:br>
              <a:rPr sz="1300"/>
            </a:br>
            <a:r>
              <a:rPr b="1" lang="ru-RU" sz="1300" spc="-1" strike="noStrike">
                <a:solidFill>
                  <a:srgbClr val="262626"/>
                </a:solidFill>
                <a:latin typeface="Arial"/>
                <a:ea typeface="Open sans"/>
              </a:rPr>
              <a:t>курсов повышения квалификации</a:t>
            </a:r>
            <a:r>
              <a:rPr b="0" lang="ru-RU" sz="1300" spc="-1" strike="noStrike">
                <a:solidFill>
                  <a:srgbClr val="262626"/>
                </a:solidFill>
                <a:latin typeface="Arial"/>
                <a:ea typeface="Open sans"/>
              </a:rPr>
              <a:t> по технологиям эффективного формирования естественно-научной </a:t>
            </a:r>
            <a:br>
              <a:rPr sz="1300"/>
            </a:br>
            <a:r>
              <a:rPr b="0" lang="ru-RU" sz="1300" spc="-1" strike="noStrike">
                <a:solidFill>
                  <a:srgbClr val="262626"/>
                </a:solidFill>
                <a:latin typeface="Arial"/>
                <a:ea typeface="Open sans"/>
              </a:rPr>
              <a:t>и математической грамотност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262626"/>
                </a:solidFill>
                <a:latin typeface="Arial"/>
                <a:ea typeface="Open sans"/>
              </a:rPr>
              <a:t>более 80% программы — практические занятия с инновационным оборудованием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262626"/>
                </a:solidFill>
                <a:latin typeface="Arial"/>
                <a:ea typeface="Open sans"/>
              </a:rPr>
              <a:t>комплект практических методических материалов к каждой программе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262626"/>
                </a:solidFill>
                <a:latin typeface="Arial"/>
                <a:ea typeface="Open sans"/>
              </a:rPr>
              <a:t>Комплекс учебно-методических пособий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262626"/>
                </a:solidFill>
                <a:latin typeface="Arial"/>
                <a:ea typeface="Open sans"/>
              </a:rPr>
              <a:t>индивидуальные обучающие пособия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262626"/>
                </a:solidFill>
                <a:latin typeface="Arial"/>
                <a:ea typeface="Open sans"/>
              </a:rPr>
              <a:t>многофункциональные сборники задач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262626"/>
                </a:solidFill>
                <a:latin typeface="Arial"/>
                <a:ea typeface="Open sans"/>
              </a:rPr>
              <a:t>тренажёры для отработки формируемых навыков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262626"/>
                </a:solidFill>
                <a:latin typeface="Arial"/>
                <a:ea typeface="Open sans"/>
              </a:rPr>
              <a:t>Информационно-образовательный портал</a:t>
            </a:r>
            <a:r>
              <a:rPr b="0" lang="ru-RU" sz="1300" spc="-1" strike="noStrike">
                <a:solidFill>
                  <a:srgbClr val="262626"/>
                </a:solidFill>
                <a:latin typeface="Arial"/>
                <a:ea typeface="Open sans"/>
              </a:rPr>
              <a:t> и образовательная </a:t>
            </a:r>
            <a:r>
              <a:rPr b="1" lang="ru-RU" sz="1300" spc="-1" strike="noStrike">
                <a:solidFill>
                  <a:srgbClr val="262626"/>
                </a:solidFill>
                <a:latin typeface="Arial"/>
                <a:ea typeface="Open sans"/>
              </a:rPr>
              <a:t>онлайн-платформ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262626"/>
                </a:solidFill>
                <a:latin typeface="Arial"/>
                <a:ea typeface="Open sans"/>
              </a:rPr>
              <a:t>цифровой банк заданий по функциональной грамотности для учащихс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262626"/>
                </a:solidFill>
                <a:latin typeface="Arial"/>
                <a:ea typeface="Open sans"/>
              </a:rPr>
              <a:t>мониторинговые исследовани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262626"/>
                </a:solidFill>
                <a:latin typeface="Arial"/>
                <a:ea typeface="Open sans"/>
              </a:rPr>
              <a:t>информационно-консультационный сервис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262626"/>
                </a:solidFill>
                <a:latin typeface="Arial"/>
                <a:ea typeface="Open sans"/>
              </a:rPr>
              <a:t>Оборудование для профильных классов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43"/>
          <p:cNvSpPr/>
          <p:nvPr/>
        </p:nvSpPr>
        <p:spPr>
          <a:xfrm>
            <a:off x="103320" y="6540480"/>
            <a:ext cx="225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6a6a6"/>
                </a:solidFill>
                <a:latin typeface="Calibri"/>
              </a:rPr>
              <a:t>© АО «Издательство «Просвещение», 20</a:t>
            </a:r>
            <a:r>
              <a:rPr b="0" lang="en-US" sz="1000" spc="-1" strike="noStrike">
                <a:solidFill>
                  <a:srgbClr val="a6a6a6"/>
                </a:solidFill>
                <a:latin typeface="Calibri"/>
              </a:rPr>
              <a:t>2</a:t>
            </a:r>
            <a:r>
              <a:rPr b="0" lang="ru-RU" sz="1000" spc="-1" strike="noStrike">
                <a:solidFill>
                  <a:srgbClr val="a6a6a6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Рисунок 46" descr=""/>
          <p:cNvPicPr/>
          <p:nvPr/>
        </p:nvPicPr>
        <p:blipFill>
          <a:blip r:embed="rId9"/>
          <a:stretch/>
        </p:blipFill>
        <p:spPr>
          <a:xfrm>
            <a:off x="-1440" y="6791400"/>
            <a:ext cx="9144000" cy="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Рисунок 9" descr=""/>
          <p:cNvPicPr/>
          <p:nvPr/>
        </p:nvPicPr>
        <p:blipFill>
          <a:blip r:embed="rId1"/>
          <a:srcRect l="0" t="6611" r="0" b="35275"/>
          <a:stretch/>
        </p:blipFill>
        <p:spPr>
          <a:xfrm>
            <a:off x="376200" y="1187280"/>
            <a:ext cx="5135760" cy="357192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562360" y="6318000"/>
            <a:ext cx="2641320" cy="539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0563c1"/>
                </a:solidFill>
                <a:uFillTx/>
                <a:latin typeface="Times New Roman"/>
                <a:ea typeface="Times New Roman"/>
                <a:hlinkClick r:id="rId2"/>
              </a:rPr>
              <a:t>https://media.prosv.ru/fg</a:t>
            </a:r>
            <a:br>
              <a:rPr sz="1300"/>
            </a:b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Прямоугольник 4"/>
          <p:cNvSpPr/>
          <p:nvPr/>
        </p:nvSpPr>
        <p:spPr>
          <a:xfrm>
            <a:off x="1001880" y="4572000"/>
            <a:ext cx="27090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563c1"/>
                </a:solidFill>
                <a:uFillTx/>
                <a:latin typeface="Times New Roman"/>
                <a:ea typeface="Times New Roman"/>
                <a:hlinkClick r:id="rId3"/>
              </a:rPr>
              <a:t>http://skiv.instrao.ru/bank-zadaniy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6" descr=""/>
          <p:cNvPicPr/>
          <p:nvPr/>
        </p:nvPicPr>
        <p:blipFill>
          <a:blip r:embed="rId4"/>
          <a:srcRect l="0" t="7375" r="2200" b="6998"/>
          <a:stretch/>
        </p:blipFill>
        <p:spPr>
          <a:xfrm>
            <a:off x="4859280" y="2565360"/>
            <a:ext cx="4284720" cy="3564000"/>
          </a:xfrm>
          <a:prstGeom prst="rect">
            <a:avLst/>
          </a:prstGeom>
          <a:ln w="0">
            <a:noFill/>
          </a:ln>
        </p:spPr>
      </p:pic>
      <p:sp>
        <p:nvSpPr>
          <p:cNvPr id="167" name="TextBox 5"/>
          <p:cNvSpPr/>
          <p:nvPr/>
        </p:nvSpPr>
        <p:spPr>
          <a:xfrm>
            <a:off x="1722600" y="233280"/>
            <a:ext cx="664344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e5370"/>
                </a:solidFill>
                <a:latin typeface="Book Antiqua"/>
                <a:ea typeface="Times New Roman"/>
              </a:rPr>
              <a:t>Формирование функциональной грамот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Box 15"/>
          <p:cNvSpPr/>
          <p:nvPr/>
        </p:nvSpPr>
        <p:spPr>
          <a:xfrm>
            <a:off x="569880" y="4653000"/>
            <a:ext cx="801072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5597"/>
                </a:solidFill>
                <a:latin typeface="Times New Roman"/>
                <a:ea typeface="Verdana"/>
              </a:rPr>
              <a:t>Вход педагогов осуществляется только с использованием учетной записи портала </a:t>
            </a:r>
            <a:r>
              <a:rPr b="1" lang="ru-RU" sz="1600" spc="-1" strike="noStrike">
                <a:solidFill>
                  <a:srgbClr val="2f5597"/>
                </a:solidFill>
                <a:latin typeface="Times New Roman"/>
                <a:ea typeface="Verdana"/>
              </a:rPr>
              <a:t>«Российская электронная школа», </a:t>
            </a:r>
            <a:r>
              <a:rPr b="0" lang="ru-RU" sz="1600" spc="-1" strike="noStrike">
                <a:solidFill>
                  <a:srgbClr val="2f5597"/>
                </a:solidFill>
                <a:latin typeface="Times New Roman"/>
                <a:ea typeface="Verdana"/>
              </a:rPr>
              <a:t>в связи с чем необходима предварительная регистрация на портале в роли </a:t>
            </a:r>
            <a:r>
              <a:rPr b="1" lang="ru-RU" sz="1600" spc="-1" strike="noStrike">
                <a:solidFill>
                  <a:srgbClr val="2f5597"/>
                </a:solidFill>
                <a:latin typeface="Times New Roman"/>
                <a:ea typeface="Verdana"/>
              </a:rPr>
              <a:t>«Учитель»</a:t>
            </a:r>
            <a:r>
              <a:rPr b="0" lang="ru-RU" sz="1600" spc="-1" strike="noStrike">
                <a:solidFill>
                  <a:srgbClr val="2f5597"/>
                </a:solidFill>
                <a:latin typeface="Times New Roman"/>
                <a:ea typeface="Verdana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5597"/>
                </a:solidFill>
                <a:latin typeface="Times New Roman"/>
                <a:ea typeface="Verdana"/>
              </a:rPr>
              <a:t>При регистрации необходимо обязательно указывать </a:t>
            </a:r>
            <a:r>
              <a:rPr b="1" lang="ru-RU" sz="1600" spc="-1" strike="noStrike">
                <a:solidFill>
                  <a:srgbClr val="2f5597"/>
                </a:solidFill>
                <a:latin typeface="Times New Roman"/>
                <a:ea typeface="Verdana"/>
              </a:rPr>
              <a:t>образовательную организацию</a:t>
            </a:r>
            <a:r>
              <a:rPr b="0" lang="ru-RU" sz="1600" spc="-1" strike="noStrike">
                <a:solidFill>
                  <a:srgbClr val="2f5597"/>
                </a:solidFill>
                <a:latin typeface="Times New Roman"/>
                <a:ea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Рисунок 16" descr=""/>
          <p:cNvPicPr/>
          <p:nvPr/>
        </p:nvPicPr>
        <p:blipFill>
          <a:blip r:embed="rId1"/>
          <a:srcRect l="3378" t="0" r="2906" b="24129"/>
          <a:stretch/>
        </p:blipFill>
        <p:spPr>
          <a:xfrm>
            <a:off x="309600" y="534960"/>
            <a:ext cx="8569440" cy="3902040"/>
          </a:xfrm>
          <a:prstGeom prst="rect">
            <a:avLst/>
          </a:prstGeom>
          <a:ln w="0">
            <a:noFill/>
          </a:ln>
        </p:spPr>
      </p:pic>
      <p:sp>
        <p:nvSpPr>
          <p:cNvPr id="170" name="Прямоугольник 1"/>
          <p:cNvSpPr/>
          <p:nvPr/>
        </p:nvSpPr>
        <p:spPr>
          <a:xfrm>
            <a:off x="3610800" y="171360"/>
            <a:ext cx="2536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6092"/>
                </a:solidFill>
                <a:latin typeface="Arial"/>
              </a:rPr>
              <a:t>https://fg.resh.edu.r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Рисунок 6" descr=""/>
          <p:cNvPicPr/>
          <p:nvPr/>
        </p:nvPicPr>
        <p:blipFill>
          <a:blip r:embed="rId1"/>
          <a:stretch/>
        </p:blipFill>
        <p:spPr>
          <a:xfrm>
            <a:off x="301680" y="301680"/>
            <a:ext cx="668160" cy="88092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03280" y="620640"/>
            <a:ext cx="7886880" cy="28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f4e79"/>
                </a:solidFill>
                <a:latin typeface="Book Antiqua"/>
                <a:ea typeface="Times New Roman"/>
              </a:rPr>
              <a:t>Благодарю за внимание</a:t>
            </a:r>
            <a:r>
              <a:rPr b="1" i="1" lang="en-US" sz="3200" spc="-1" strike="noStrike">
                <a:solidFill>
                  <a:srgbClr val="1f4e79"/>
                </a:solidFill>
                <a:latin typeface="Book Antiqua"/>
                <a:ea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23880" y="4589280"/>
            <a:ext cx="788688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099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зачок Светлана Александровна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099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ститель директора 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У «Информационно-методический центр»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099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-56-64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zachok_sa@admsurgut.r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Рисунок 3" descr=""/>
          <p:cNvPicPr/>
          <p:nvPr/>
        </p:nvPicPr>
        <p:blipFill>
          <a:blip r:embed="rId2"/>
          <a:stretch/>
        </p:blipFill>
        <p:spPr>
          <a:xfrm>
            <a:off x="8205840" y="311040"/>
            <a:ext cx="779400" cy="165096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3" descr=""/>
          <p:cNvPicPr/>
          <p:nvPr/>
        </p:nvPicPr>
        <p:blipFill>
          <a:blip r:embed="rId3"/>
          <a:stretch/>
        </p:blipFill>
        <p:spPr>
          <a:xfrm>
            <a:off x="244440" y="1554120"/>
            <a:ext cx="779400" cy="16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5T05:04:51Z</dcterms:created>
  <dc:creator>bondarenko_an</dc:creator>
  <dc:description/>
  <dc:language>en-US</dc:language>
  <cp:lastModifiedBy>Светлана Александровна Козачок</cp:lastModifiedBy>
  <cp:lastPrinted>2020-09-29T05:27:42Z</cp:lastPrinted>
  <dcterms:modified xsi:type="dcterms:W3CDTF">2021-11-29T11:19:13Z</dcterms:modified>
  <cp:revision>260</cp:revision>
  <dc:subject/>
  <dc:title>Слайд 1</dc:title>
</cp:coreProperties>
</file>